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E228-0F2F-4509-A1FE-760D5A0B4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DEE0-0CDA-41D5-ADD9-841B49CB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4807-6F5C-4F4B-8519-20ECA2DD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1F37-3FC2-4213-8F20-F074EC890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8705-394D-4DF3-85E0-4A148D71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C74C-E218-43BF-BFC7-49F046FF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8806-AAF6-429B-959C-3B6524DD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5E0B-0A61-4E64-8317-6D7980F2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F9F1-3445-4216-AD13-10452826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4D2A-3B82-44E6-B22B-C9063CBC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23B6-C92C-4C97-9453-072E45EA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4A76-9CCD-4F78-AD4D-AA70B33E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fd29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fd29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fd2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fd29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9BCD-F817-4732-AE5A-CA8476BE77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743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Mixing Real Events </a:t>
            </a:r>
            <a:br>
              <a:rPr sz="4400"/>
            </a:b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and Fictional Events</a:t>
            </a: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Writers of historical fiction create a plot that is realistic to the time period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The story is a mixture of real events and fictional events. 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Think about…</a:t>
            </a:r>
            <a:br>
              <a:rPr sz="3600"/>
            </a:b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“A Second Beginning”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79246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What events in the story were real events?</a:t>
            </a:r>
            <a:br>
              <a:rPr sz="3200"/>
            </a:b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Which events were fictional? 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Today, in your Writer’s Notebook, think about the events in your story.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Which events will be real?</a:t>
            </a:r>
            <a:br>
              <a:rPr sz="3200"/>
            </a:b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Which events will be fictional?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2666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Make a chart in your notebook listing both types of events.  Be prepared to share at the end of the workshop.  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23:27:11Z</dcterms:created>
  <dc:creator>AAPS</dc:creator>
  <dc:description/>
  <dc:language>en-US</dc:language>
  <cp:lastModifiedBy>Carrie Dworkin</cp:lastModifiedBy>
  <dcterms:modified xsi:type="dcterms:W3CDTF">2005-08-16T21:23:35Z</dcterms:modified>
  <cp:revision>5</cp:revision>
  <dc:subject/>
  <dc:title>Mixing Real Events and Fictional Events </dc:title>
</cp:coreProperties>
</file>